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3366A-8F18-44D3-BA43-33A5C93C2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2D77F-A690-462F-A1D8-726C1286B2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624F7-A671-4F08-B8E2-DDE3E53014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A57DC-B789-4956-BC90-72F8638BAB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A453E-33C4-47BA-9482-8A99A3C8F6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0A84E-427B-4413-B20F-9653FCD501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70BB1-7E75-468E-931C-9BB1192F39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7F17C-16AB-49C6-B657-DE7309D73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E9EA-0952-4A27-9469-FF605F18E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69FCA-5B38-4FE4-8925-289F4809C6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B9178-5D5E-41DE-B23B-574FE95BF5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F5D8D-2252-4D32-8C0A-8568E0C1EF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4D985-CA64-47AF-98A9-2B2A3CA762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D91C3-EB87-47ED-AE3E-317EE1D9E5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34C-0996-4313-871D-AB3474A4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A40-E817-47A4-8B0A-C0FB5305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D00-E6D7-4E01-ACCF-E9766E51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0A4-1922-4F45-8859-BEFD64D3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A9046-418A-4637-AD5C-D195EEA078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4642E-9F83-4BC4-BF8A-AFB7CDECD7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EC276-A5E9-44F5-A72A-8F746DE08A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D9608-02BB-414C-BA11-0E80598822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E72B9-9D99-42E9-87E2-964FB9C87F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4497D-5414-45B4-843F-6F79B6B519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34696-B63C-44A8-AAED-3B3599482A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D21-525D-40F6-B5EF-35BE2642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24992-CD2F-4097-875D-46AA28A34B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284E8-F36D-4DF8-80AF-4DFBDC5743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4046C-88E4-4E45-9895-5B54476B7E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505B5-5905-4CAF-821C-DFBEAC64C3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6FEF3-BFA4-42D0-8499-A83D8247C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F98-0F92-48AB-919E-D595DB38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E5D-5FC0-4E5A-B6C1-768E54B0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B97-2A55-405A-98D2-DAC2116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47A-BB87-435E-8FCC-A4475F5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6F1-D438-4E63-8A89-BAFB59F0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9BC-AE16-4BDD-9828-D2DCE15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D44-049A-426A-A52B-7081840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1D679-5690-4149-BCDA-771AEE0DE4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4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224840" y="6886080"/>
            <a:ext cx="23335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5BD26-07E1-421A-B390-C8829540DF7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logiavirtual.com.b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Unidad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; for(... in ...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nsim=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&lt;-rep(NA, 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for(i in 1: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dados&lt;-sample(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sd &lt;- … (s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 &lt;- p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orrelação entre matrizes de distâ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Permuta uma matriz e recalcula a correl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petir 2 muitas vez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alcula a signficância de 1 a partir da distribuição d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395360"/>
            <a:ext cx="100792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5720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Simulação d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Ecoló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11320" y="1920960"/>
            <a:ext cx="55785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ffcc00"/>
                </a:solidFill>
                <a:latin typeface="Arial"/>
              </a:rPr>
              <a:t>Bibliografia Recomendad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680" y="3965400"/>
            <a:ext cx="231624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35760" y="1371600"/>
            <a:ext cx="3657600" cy="49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21040" y="2011320"/>
            <a:ext cx="265752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08000" y="201600"/>
            <a:ext cx="9072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Arial"/>
              </a:rPr>
              <a:t>A lógica dos cassin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5400" y="36115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éculo XIX, quando o governo italiano estendeu ao restante daquele país a loteria napolitana, ele sentenciou: "é um imposto sobre a imbecilidad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120" y="252360"/>
            <a:ext cx="1511280" cy="246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4240" y="285588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millo Ben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e de Cav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6320" y="139212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to sobre a imbecilidad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15955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simulação de uma distribuição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conhecida, ou mais geral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Reamostragem (Permutação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tiliza os dados para gerar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istribuições nul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estima intervalos de confiança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e 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m parâmetr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TUITIV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6600" y="1905120"/>
            <a:ext cx="94917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44680" y="1722600"/>
            <a:ext cx="8915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mostras aleatórias e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depen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 estatística descreve 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padrão de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i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o cenário nulo descreve 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usência do processo al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905120"/>
            <a:ext cx="5943600" cy="1020600"/>
          </a:xfrm>
          <a:prstGeom prst="line">
            <a:avLst/>
          </a:prstGeom>
          <a:ln w="54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1917720"/>
            <a:ext cx="5851440" cy="828720"/>
          </a:xfrm>
          <a:prstGeom prst="line">
            <a:avLst/>
          </a:prstGeom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e de Hipótese por Reamostrag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Definir a estatística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(reordenar) os dados para o cenário nu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Criar a distribuição de pesudo-valores (nul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omparar o valor observado e calcular “p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23:45Z</dcterms:created>
  <dc:creator>alexandre </dc:creator>
  <dc:description/>
  <dc:language>en-US</dc:language>
  <cp:lastModifiedBy/>
  <cp:revision>0</cp:revision>
  <dc:subject/>
  <dc:title/>
</cp:coreProperties>
</file>